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83A-9987-4270-BF34-CD4FA106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35C-8632-451B-BD79-DAB9030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94F-4AFD-4556-9079-5B70CEFE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EC4-D35E-4149-94B2-300FE266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3EB-8872-4E99-9CD4-07D791D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0D6-97C0-4BA2-B83B-21141EA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5E0-8DAB-473F-A4C2-9450892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C1C-8278-4FF9-99EE-9E7CA27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850-5C9B-49A4-AB22-87FE27D7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0A5-0AE0-42D8-960F-FFF2B69D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C93-7FA4-46E8-9FF4-A062670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259-14B1-458F-B24F-D3013CC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EA2-BDC4-4631-9514-3240B644D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«Жизнь дана на добрые</a:t>
            </a: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дел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Классный 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Качества характе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на которого можно полож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у которого доброе серд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который желает другим только доб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с доброй душой и мягким характ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обладающий добрым нра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поряд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жела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нра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серде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душ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Учитель года\Урок\ещё пя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643200" y="3143160"/>
            <a:ext cx="214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ЧЕЛОВЕКОЛЮБ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Марафон добрых д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оформление и газета\Бареевой\39157637_1209399941_g4.jpg"/>
          <p:cNvPicPr/>
          <p:nvPr/>
        </p:nvPicPr>
        <p:blipFill>
          <a:blip r:embed="rId1"/>
          <a:stretch/>
        </p:blipFill>
        <p:spPr>
          <a:xfrm>
            <a:off x="1392120" y="1214280"/>
            <a:ext cx="63597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85840" y="585792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этом мире огромном, в котором живём я и ты, не хватает тепла, не хватает людской Доброты. Будем вместе учиться друг друга беречь и любить, будем вместе учиться друг другу, как звёзды, све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Учитель года\для презентации\1_600.jpg"/>
          <p:cNvPicPr/>
          <p:nvPr/>
        </p:nvPicPr>
        <p:blipFill>
          <a:blip r:embed="rId1"/>
          <a:stretch/>
        </p:blipFill>
        <p:spPr>
          <a:xfrm>
            <a:off x="285840" y="642960"/>
            <a:ext cx="2952720" cy="2214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1" name="Picture 3" descr="E:\Учитель года\для презентации\1498.jpg"/>
          <p:cNvPicPr/>
          <p:nvPr/>
        </p:nvPicPr>
        <p:blipFill>
          <a:blip r:embed="rId2"/>
          <a:stretch/>
        </p:blipFill>
        <p:spPr>
          <a:xfrm>
            <a:off x="3571920" y="642960"/>
            <a:ext cx="2749680" cy="22273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2" name="Picture 4" descr="E:\Учитель года\для презентации\677_donor.jpg"/>
          <p:cNvPicPr/>
          <p:nvPr/>
        </p:nvPicPr>
        <p:blipFill>
          <a:blip r:embed="rId3"/>
          <a:stretch/>
        </p:blipFill>
        <p:spPr>
          <a:xfrm>
            <a:off x="6643800" y="642960"/>
            <a:ext cx="2214360" cy="2214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3" name="Picture 5" descr="E:\Учитель года\для презентации\36994819.jpg"/>
          <p:cNvPicPr/>
          <p:nvPr/>
        </p:nvPicPr>
        <p:blipFill>
          <a:blip r:embed="rId4"/>
          <a:stretch/>
        </p:blipFill>
        <p:spPr>
          <a:xfrm>
            <a:off x="357120" y="3357720"/>
            <a:ext cx="1968480" cy="24811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4" name="Picture 6" descr="E:\Учитель года\для презентации\822492611.jpg"/>
          <p:cNvPicPr/>
          <p:nvPr/>
        </p:nvPicPr>
        <p:blipFill>
          <a:blip r:embed="rId5"/>
          <a:stretch/>
        </p:blipFill>
        <p:spPr>
          <a:xfrm>
            <a:off x="2643120" y="3500280"/>
            <a:ext cx="2921040" cy="2190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5" name="Picture 7" descr="E:\Учитель года\для презентации\d0b1d0b5d0b7d18bd0bcd18fd0bdd0bdd18bd0b9.jpg"/>
          <p:cNvPicPr/>
          <p:nvPr/>
        </p:nvPicPr>
        <p:blipFill>
          <a:blip r:embed="rId6"/>
          <a:stretch/>
        </p:blipFill>
        <p:spPr>
          <a:xfrm>
            <a:off x="5786280" y="3571920"/>
            <a:ext cx="3046680" cy="19969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76" name="TextBox 7"/>
          <p:cNvSpPr/>
          <p:nvPr/>
        </p:nvSpPr>
        <p:spPr>
          <a:xfrm>
            <a:off x="285840" y="58579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усть не ставят нам в школе оценок за щедрость Души, ты однажды возьми и Добро просто так соверши, и тогда на морозе щемяще запахнет весной, и тогда на Земле станет больше улыбкой 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Учитель года\для презентации\20090603181607_1.jpg"/>
          <p:cNvPicPr/>
          <p:nvPr/>
        </p:nvPicPr>
        <p:blipFill>
          <a:blip r:embed="rId1"/>
          <a:stretch/>
        </p:blipFill>
        <p:spPr>
          <a:xfrm>
            <a:off x="500040" y="571680"/>
            <a:ext cx="2654280" cy="20523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8" name="Picture 3" descr="E:\Учитель года\для презентации\dela-300.jpg"/>
          <p:cNvPicPr/>
          <p:nvPr/>
        </p:nvPicPr>
        <p:blipFill>
          <a:blip r:embed="rId2"/>
          <a:stretch/>
        </p:blipFill>
        <p:spPr>
          <a:xfrm>
            <a:off x="3786120" y="571680"/>
            <a:ext cx="2643120" cy="20080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9" name="Picture 4" descr="E:\Учитель года\для презентации\icon_posuda.gif"/>
          <p:cNvPicPr/>
          <p:nvPr/>
        </p:nvPicPr>
        <p:blipFill>
          <a:blip r:embed="rId3"/>
          <a:stretch/>
        </p:blipFill>
        <p:spPr>
          <a:xfrm>
            <a:off x="6819840" y="1143000"/>
            <a:ext cx="2022480" cy="1143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0" name="Picture 5" descr="E:\Учитель года\для презентации\l4_69.jpg"/>
          <p:cNvPicPr/>
          <p:nvPr/>
        </p:nvPicPr>
        <p:blipFill>
          <a:blip r:embed="rId4"/>
          <a:stretch/>
        </p:blipFill>
        <p:spPr>
          <a:xfrm>
            <a:off x="500040" y="3357720"/>
            <a:ext cx="4265640" cy="28573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1" name="Picture 6" descr="E:\Учитель года\для презентации\rm_35_1812s.jpg"/>
          <p:cNvPicPr/>
          <p:nvPr/>
        </p:nvPicPr>
        <p:blipFill>
          <a:blip r:embed="rId5"/>
          <a:stretch/>
        </p:blipFill>
        <p:spPr>
          <a:xfrm>
            <a:off x="5929200" y="3071880"/>
            <a:ext cx="2374920" cy="33814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Учитель года\Урок\013.jpg"/>
          <p:cNvPicPr/>
          <p:nvPr/>
        </p:nvPicPr>
        <p:blipFill>
          <a:blip r:embed="rId1"/>
          <a:stretch/>
        </p:blipFill>
        <p:spPr>
          <a:xfrm>
            <a:off x="-58680" y="0"/>
            <a:ext cx="92613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G:\Учитель года\Урок\Яшин Александр Яковлевич Попов.jpg"/>
          <p:cNvPicPr/>
          <p:nvPr/>
        </p:nvPicPr>
        <p:blipFill>
          <a:blip r:embed="rId2"/>
          <a:stretch/>
        </p:blipFill>
        <p:spPr>
          <a:xfrm>
            <a:off x="0" y="0"/>
            <a:ext cx="3174840" cy="410220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sp>
        <p:nvSpPr>
          <p:cNvPr id="84" name="TextBox 3"/>
          <p:cNvSpPr/>
          <p:nvPr/>
        </p:nvSpPr>
        <p:spPr>
          <a:xfrm>
            <a:off x="4214880" y="214200"/>
            <a:ext cx="4500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не с отчимом невесело жи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ё ж он меня растил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отт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рой жалею, что не дове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оть чем-нибудь порадовать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огда он слёг и тихо умирал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сказывает мать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ень ото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ё чаще вспоминал меня и жд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Вот Шурку бы…. Уж он бы спас мен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ездомной бабушке в селе род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Я говорил: мол, так её любл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то подрасту и сам срублю ей 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ров наготовл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леба воз куп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чтал о мно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ного обеща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 блокаде ленинградской ста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т смерти б спа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а на день опозд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дня того не возвратят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еперь прошёл я тысячи дорог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упить воз  хлеба, дом срубить бы м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т отч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бабка умерла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пешите делать добрые де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85840" y="571680"/>
            <a:ext cx="8572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Ждут нас сотни дорог, но у каждого будет сво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И до цели добраться, конечно, помогут Друз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Чтоб скорее исполнились давние наши меч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усть всегда будет главным уроком урок Добр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Учитель года\для презентации\de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Учитель года\для презентации\добротою подел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500800" y="785880"/>
            <a:ext cx="3357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де красота – там добр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разлучить ничто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юбая светлая 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двух подруг всегда похо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нам без них не обойт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и светлым днём, ни днём дождл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если хочешь быть крас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То добротою подели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Учитель года\для презентации\8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00040" y="542916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Цветок человеколюб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Black"/>
              </a:rPr>
              <a:t>«Восстановите пословиц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Жизнь дана на _ _ _ _ _ _ де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ир не без _ _ _ _ _ _ люд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_ _ _ _ _ желаешь, _ _ _ _ _ и делаеш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_ _ _ _ _ _ слово человеку, что дождь в засух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:\Учитель года\Урок\1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Этикетн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ый веч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ый д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е утр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го здоров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 пожал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добрый п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сего добр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:\Учитель года\для презентации\%D0%B4%D0%BE%D0%B1%D1%80%D0%BE.jpg"/>
          <p:cNvPicPr/>
          <p:nvPr/>
        </p:nvPicPr>
        <p:blipFill>
          <a:blip r:embed="rId1"/>
          <a:stretch/>
        </p:blipFill>
        <p:spPr>
          <a:xfrm>
            <a:off x="5073480" y="1600200"/>
            <a:ext cx="318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Учитель года\Урок\2 и 3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Учитель года\Урок\4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71720" y="35712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Добрые персонажи ск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Учитель года\для презентации\красная шапочка.jpg"/>
          <p:cNvPicPr/>
          <p:nvPr/>
        </p:nvPicPr>
        <p:blipFill>
          <a:blip r:embed="rId1"/>
          <a:stretch/>
        </p:blipFill>
        <p:spPr>
          <a:xfrm>
            <a:off x="500040" y="714240"/>
            <a:ext cx="2163960" cy="2428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7" name="Picture 3" descr="E:\Учитель года\для презентации\кот в сапогах.jpg"/>
          <p:cNvPicPr/>
          <p:nvPr/>
        </p:nvPicPr>
        <p:blipFill>
          <a:blip r:embed="rId2"/>
          <a:stretch/>
        </p:blipFill>
        <p:spPr>
          <a:xfrm>
            <a:off x="3357720" y="714240"/>
            <a:ext cx="1976400" cy="246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Picture 4" descr="E:\Учитель года\для презентации\настенька.jpg"/>
          <p:cNvPicPr/>
          <p:nvPr/>
        </p:nvPicPr>
        <p:blipFill>
          <a:blip r:embed="rId3"/>
          <a:stretch/>
        </p:blipFill>
        <p:spPr>
          <a:xfrm>
            <a:off x="5715000" y="714240"/>
            <a:ext cx="3143160" cy="235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5" descr="E:\Учитель года\для презентации\дюймовочка.jpg"/>
          <p:cNvPicPr/>
          <p:nvPr/>
        </p:nvPicPr>
        <p:blipFill>
          <a:blip r:embed="rId4"/>
          <a:stretch/>
        </p:blipFill>
        <p:spPr>
          <a:xfrm>
            <a:off x="285840" y="3929040"/>
            <a:ext cx="2797200" cy="1862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0" name="Picture 6" descr="E:\Учитель года\для презентации\цветик-семицветик.jpg"/>
          <p:cNvPicPr/>
          <p:nvPr/>
        </p:nvPicPr>
        <p:blipFill>
          <a:blip r:embed="rId5"/>
          <a:stretch/>
        </p:blipFill>
        <p:spPr>
          <a:xfrm>
            <a:off x="3500280" y="3929040"/>
            <a:ext cx="1928880" cy="2430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1" name="Picture 7" descr="E:\Учитель года\для презентации\OBKLADINKA_KOT_PETUH_LISA.jpg"/>
          <p:cNvPicPr/>
          <p:nvPr/>
        </p:nvPicPr>
        <p:blipFill>
          <a:blip r:embed="rId6"/>
          <a:stretch/>
        </p:blipFill>
        <p:spPr>
          <a:xfrm>
            <a:off x="6429240" y="3929040"/>
            <a:ext cx="1913040" cy="1963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20:33Z</dcterms:created>
  <dc:creator>Худякова</dc:creator>
  <dc:description/>
  <dc:language>en-US</dc:language>
  <cp:lastModifiedBy>Худякова</cp:lastModifiedBy>
  <dcterms:modified xsi:type="dcterms:W3CDTF">2009-12-21T17:41:21Z</dcterms:modified>
  <cp:revision>21</cp:revision>
  <dc:subject/>
  <dc:title>«Жизнь дана на добрые дела»</dc:title>
</cp:coreProperties>
</file>