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12A-3B3A-4E5C-BC24-D6402092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E0C-653C-4E2F-92A0-222EBEC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C5F-AED0-4760-9E62-84F6C81D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4B1-CBFA-45A8-A0B2-2AEC431D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8843-10ED-4ABB-809B-54ADEB89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AB33-FDD5-4BC3-AAFD-CBD07801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D602-CE0B-4215-822C-C3496F96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A54C-806F-459B-9D2C-645F305C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651-4C95-429F-AAB5-CFC7B90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3717-CA4F-4531-A0FA-9947415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70B-405C-47DC-970F-A9C9A89A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B6E-4214-40E0-8286-F4E933D8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CD9-CDBE-4FF9-A432-38A187A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627E-57AF-4B9F-9252-402EC74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263-B15F-4F29-9B6E-81BE520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88C-3933-4B60-94D6-6C00A329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864-491D-414F-ACD0-9BCEA7FA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D311-93B4-45AF-AA30-5C1C0CA6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812E-E381-4661-8DE6-BDA135B5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31FB-49F3-447A-9224-35155EC7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8397-3496-488E-B688-77AA519F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AE83-B159-45A9-929A-ADACEDE6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B83-A946-4C8A-9E50-5782F035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E05A-C23D-4EFE-937B-5A7075B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D749-3C74-4246-B1CD-9CB16C3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CEAD-F406-4233-AD98-7CE882C5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FEAA-1E74-4E81-AB27-11174E7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CAE4-695C-4084-B329-2BFC679A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0E6A-424C-43CB-BCE7-009AD7C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8C09-B19E-4C2F-A8B3-BC6E56BD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AFE0-41E2-4434-94B5-2F3FC535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DEB1-0A5D-488D-B7C6-32D3C23B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B320-40AC-4528-815B-16B8A74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1BF-AB92-41EB-B9FF-74EA242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028E-A492-4AD2-933E-DD72670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9294-D004-46E0-9CA2-38C058C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6474-AD54-4B04-B5E9-3009608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8B98-0E11-459A-B320-E5A52F4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E786-838E-4E17-AFF1-E7F1B1C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77DB-103F-435D-A777-F23EA1B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33CE-A7E7-4C1E-96EB-A4DED343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3F6E9-C342-4DEA-B259-D3804ACA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23A4-327F-4003-94D7-54B43A51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CCB69-EF0B-49DD-A1C9-0F1551DE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8FE-0D03-495D-A1B3-FAED092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E430-686E-4994-A6D5-2D30FC0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4952-648B-427A-ABA1-54FCD3C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3576-6C16-4CB8-AC61-5821AA6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5F60-584D-4B68-A1B8-9DF233B1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2B0D-A139-44BB-B09B-3E0D5B4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4DA6-7DE0-4FEA-94AB-D869F8B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08403-5DD2-4DB3-8702-A1E3A67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2022-C9AB-42E6-AFF7-7176D1A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982E-1E87-4240-8BE4-76487DC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7E51-7BB4-423F-B283-4AB49A82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B2F-2047-4971-A155-D4965A9D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8C86-76BA-44B7-AB51-1249DC72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6C1-AB8B-4A0D-A0A2-4F030F2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58F-9558-4D9F-A317-B855300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161-25E5-4057-BB31-FFFDBC1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B47-EDA6-4116-90B9-69DC7E8B0D6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168-0805-436C-9487-28099A782D3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EE4-7C35-4D9C-A757-E80E77DD51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567-BDE3-42C1-B057-CCA9DAF829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D6E-06E6-41CF-9CD3-1CA91EAE55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7079246.jpg"/>
          <p:cNvPicPr/>
          <p:nvPr/>
        </p:nvPicPr>
        <p:blipFill>
          <a:blip r:embed="rId1"/>
          <a:stretch/>
        </p:blipFill>
        <p:spPr>
          <a:xfrm>
            <a:off x="285840" y="357120"/>
            <a:ext cx="8567640" cy="6215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571680" y="571680"/>
            <a:ext cx="77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ультура речи учит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5428800"/>
            <a:ext cx="8183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Два стиля общ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Авторитарный сти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8040" y="1447560"/>
            <a:ext cx="3930480" cy="398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 посмотрим вместе, почему у тебя не получило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 подумаем вмест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знаю, что тебе нелегк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тебя есть выбор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всех сначала бывает та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переживай: это потому, что ты долго болел, но скоро нас догониш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понимаю, что ты хотел сделать лучш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53000" y="1447560"/>
            <a:ext cx="3930480" cy="398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рассужда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лай, как я говорю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бя никто не спрашивает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аких отговорок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твои проблемы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ять то же само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требую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кратить немедленн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071600"/>
            <a:ext cx="818352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Правильность, нормативность речи – основополагающий критерий культуры реч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4" descr="D:\8778beacf12f.jpg"/>
          <p:cNvPicPr/>
          <p:nvPr/>
        </p:nvPicPr>
        <p:blipFill>
          <a:blip r:embed="rId1"/>
          <a:stretch/>
        </p:blipFill>
        <p:spPr>
          <a:xfrm>
            <a:off x="2928960" y="1214280"/>
            <a:ext cx="32860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5643360"/>
            <a:ext cx="81835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ыберите правильный вариант.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4204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Правильн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4204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Неправильн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8040" y="1071720"/>
            <a:ext cx="393048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густовский педсов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алов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ф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испанс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д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ку (повес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на) занят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варт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прошлом год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с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узе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Урок) началс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сп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легч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, облегч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тр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ное (правил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торен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рфограмм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53000" y="1071720"/>
            <a:ext cx="393048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вгуст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кий педсов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ва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с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исп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сер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доск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повес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на) з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я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в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т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прошлый г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сив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узей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э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Урок) н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ал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спеч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л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чит, обл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ч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трённое (правил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вт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а (орфограмм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5214960"/>
            <a:ext cx="8183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амятка для оценки коммуникативной (речевой) культуры учител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61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тной речи учитель использует весь арсенал выразительных средств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ирает соответствующий личностно-ориентированной модели обучения тон – спокойный, доброжелательный, заинтересованны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ует зависящий от возраста обучаемых, этапа обучения, сложности изучаемого материала и тому подобного темп реч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бирает соответствующую ситуации силу голос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ьзуется нужной интонацией, соблюдает паузы, логические ударения (выделяет голосом наиболее значимые по смыслу слов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едит за соответствующей задаче урока мимикой, жес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5143680"/>
            <a:ext cx="8183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Памятка для оценки коммуникативной (речевой) культуры учителя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чевая (коммуникативная) культура предполагает такж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выслушать собеседника (ученика), не перебивая ег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имательно-доброжелательное отношение к высказываниям школьни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тичное руководство дискуссией, возникшей на уро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тивно-деликатную реакцию на ошибки учащихся в устной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ое словоупотребление, в том числе и терми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143680"/>
            <a:ext cx="8183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амятка для оценки коммуникативной (речевой) культуры учител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8183520" cy="4470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35:45Z</dcterms:created>
  <dc:creator>Худякова</dc:creator>
  <dc:description/>
  <dc:language>en-US</dc:language>
  <cp:lastModifiedBy>Худякова</cp:lastModifiedBy>
  <dcterms:modified xsi:type="dcterms:W3CDTF">2009-11-18T18:41:41Z</dcterms:modified>
  <cp:revision>12</cp:revision>
  <dc:subject/>
  <dc:title>Культура речи учителя</dc:title>
</cp:coreProperties>
</file>