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254-BFC5-4E45-B670-6C18132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489-2876-4E85-B431-4D56AF9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6AF-1B91-4113-B993-1AA133FD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B90-E45D-419E-B25A-FA10AC5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7570-6477-4C72-9CC4-83DC4E82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DF8-3536-4B1F-AB90-B349A721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85B-F051-4213-9203-1ACEBFB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0D70-9D8A-4C13-B2AB-CE270A0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D13-F25C-459C-939B-A2FE38F8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D6B-96E8-452A-A7D3-919C31BF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B4C2-8866-4831-BC18-7BD8E48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1F0-3B21-4D9B-B238-2575727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0B5-2F7D-422E-A509-551520A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5E3-7D1B-4488-83B7-95B030D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097-AABD-4797-B122-9332FC69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546C-C853-441E-9E73-7DE6B617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B5E1-1BE5-4CC8-A48F-2A079BE9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C6A18-BD94-4441-B361-3A78A3C6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6F9D7-2C28-4046-AED6-75D58A83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E5792-3A10-44E0-A784-11DE1987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70D05-1F1A-44AA-8F99-262DD9B0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2D9F6-D2F7-48A3-98C6-2E20FEF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FF0-3851-4D3B-970A-4BEDC7F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1A95E-7CB9-4ADD-88C0-DC3BB94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A07F7-5C91-4AB6-A9B3-6511DF9F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21B18-4859-4D81-A37A-B6E6BF1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BD436-5FA3-4286-B4C2-DE80934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726D3-E5B8-47E6-99E5-9DD41A52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A0A4B-2A77-4F9D-B712-C05FCC5E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798E5-C9E8-4721-B7E3-E84C9B8F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CCCA-D78D-4420-B8D3-566A48BA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2255E-3D28-474D-80DD-9C06E718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1BD3-AC6C-48AA-8844-96E3EF8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1FA-933F-4388-A6CD-0058C6E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50DC-8F8C-494C-96C7-6C899FEF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C76E-823C-4D1F-930D-7F6EB7D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DB24-8B1F-46E3-9248-0241F7DF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FCFE-063F-424A-8CB9-C4CABDB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DD0A-6782-414C-8AF1-9BE46A2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4407-E746-42EA-BEDC-AC9A44B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5AAF-C33A-433C-8E67-93A1FDA1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5047-A284-4983-B20A-13CC68BD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E847-11E9-4682-B517-C236C8FF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603-4D96-42F4-8A4D-273B5D4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887-F8AF-4986-A16D-BA8FA901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898-07D2-4CA8-881C-A434C86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F11-6B0E-4AFD-8618-A417650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13E-905F-4EE1-90D6-732D1C5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3452-1253-423F-A57B-35A7B1C8855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43D-A9E6-4736-A571-B35E83701B9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392F-737D-49BF-BBAC-19206EE3C6E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BA19-4240-4B98-A951-6ADD908865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rebuchet MS"/>
              </a:rPr>
              <a:t>Дети и война.</a:t>
            </a:r>
            <a:br>
              <a:rPr sz="4400"/>
            </a:b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444d26"/>
                </a:solidFill>
                <a:latin typeface="Georgia"/>
              </a:rPr>
              <a:t>Константин Симонов «Майор привёз мальчишку на лафете»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444d26"/>
                </a:solidFill>
                <a:latin typeface="Georgia"/>
              </a:rPr>
              <a:t>Александр  Твардовский «Рассказ танкиста»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Trebuchet MS"/>
              </a:rPr>
              <a:t>Цель: знакомство с жизнью Симонова К. и Твардовского А.; работа над навыками выразительного чтения и анализа лирического произведения.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17" name="Picture 2" descr="C:\Users\1\Desktop\Поэты о ВОв\87053.png"/>
          <p:cNvPicPr/>
          <p:nvPr/>
        </p:nvPicPr>
        <p:blipFill>
          <a:blip r:embed="rId1"/>
          <a:stretch/>
        </p:blipFill>
        <p:spPr>
          <a:xfrm>
            <a:off x="1643040" y="3214800"/>
            <a:ext cx="5816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1\Desktop\Поэты о ВОв\7147a09a76b2a318b0.jpg"/>
          <p:cNvPicPr/>
          <p:nvPr/>
        </p:nvPicPr>
        <p:blipFill>
          <a:blip r:embed="rId1"/>
          <a:stretch/>
        </p:blipFill>
        <p:spPr>
          <a:xfrm>
            <a:off x="714240" y="1000080"/>
            <a:ext cx="7818480" cy="514368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1\Desktop\Поэты о ВОв\5562p1.jpg"/>
          <p:cNvPicPr/>
          <p:nvPr/>
        </p:nvPicPr>
        <p:blipFill>
          <a:blip r:embed="rId1"/>
          <a:stretch/>
        </p:blipFill>
        <p:spPr>
          <a:xfrm>
            <a:off x="428760" y="714240"/>
            <a:ext cx="2971800" cy="421956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pic>
        <p:nvPicPr>
          <p:cNvPr id="220" name="Picture 3" descr="C:\Users\1\Desktop\Поэты о ВОв\SIMONOV.jpg"/>
          <p:cNvPicPr/>
          <p:nvPr/>
        </p:nvPicPr>
        <p:blipFill>
          <a:blip r:embed="rId2"/>
          <a:stretch/>
        </p:blipFill>
        <p:spPr>
          <a:xfrm>
            <a:off x="2857680" y="2786040"/>
            <a:ext cx="3047760" cy="381960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sp>
        <p:nvSpPr>
          <p:cNvPr id="221" name="TextBox 3"/>
          <p:cNvSpPr/>
          <p:nvPr/>
        </p:nvSpPr>
        <p:spPr>
          <a:xfrm>
            <a:off x="214200" y="5357880"/>
            <a:ext cx="22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613"/>
                </a:solidFill>
                <a:latin typeface="Georgia"/>
              </a:rPr>
              <a:t>Константин Симон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643200" y="785880"/>
            <a:ext cx="52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ероика и драматизм войны давали обширный материал для стихотворной баллады. Героями баллад становились юные участники войны, подрост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4" descr="C:\Users\1\Desktop\Поэты о ВОв\brest.jpg"/>
          <p:cNvPicPr/>
          <p:nvPr/>
        </p:nvPicPr>
        <p:blipFill>
          <a:blip r:embed="rId3"/>
          <a:stretch/>
        </p:blipFill>
        <p:spPr>
          <a:xfrm>
            <a:off x="6143760" y="2714760"/>
            <a:ext cx="2714400" cy="175392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sp>
        <p:nvSpPr>
          <p:cNvPr id="224" name="TextBox 6"/>
          <p:cNvSpPr/>
          <p:nvPr/>
        </p:nvSpPr>
        <p:spPr>
          <a:xfrm>
            <a:off x="6286680" y="47862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613"/>
                </a:solidFill>
                <a:latin typeface="Georgia"/>
              </a:rPr>
              <a:t>Брестская крепост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1\Desktop\Поэты о ВОв\san.jpg"/>
          <p:cNvPicPr/>
          <p:nvPr/>
        </p:nvPicPr>
        <p:blipFill>
          <a:blip r:embed="rId1"/>
          <a:stretch/>
        </p:blipFill>
        <p:spPr>
          <a:xfrm>
            <a:off x="571680" y="1143000"/>
            <a:ext cx="3822480" cy="457200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sp>
        <p:nvSpPr>
          <p:cNvPr id="226" name="TextBox 2"/>
          <p:cNvSpPr/>
          <p:nvPr/>
        </p:nvSpPr>
        <p:spPr>
          <a:xfrm>
            <a:off x="4786200" y="928800"/>
            <a:ext cx="4000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кой момент войны (наступление или отступление) описан  в стихотворени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d7e0e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7e0e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dd7e0e"/>
                </a:solidFill>
                <a:latin typeface="Georgia"/>
              </a:rPr>
              <a:t>Откуда был тот мальчик, которого привезли на лафете пушк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к понять строки: «за 10 лет… ему зачтутся эти 10 дней», « горе…. Нам оборвало сердца»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dd7e0e"/>
                </a:solidFill>
                <a:latin typeface="Georgia"/>
              </a:rPr>
              <a:t>Чем поразила увиденная картина рассказчика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то, по-вашему. Был его собеседником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dd7e0e"/>
                </a:solidFill>
                <a:latin typeface="Georgia"/>
              </a:rPr>
              <a:t>Что хотел сказать Симонов своим стихотворением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1\Desktop\Поэты о ВОв\tvardovskij.jpg"/>
          <p:cNvPicPr/>
          <p:nvPr/>
        </p:nvPicPr>
        <p:blipFill>
          <a:blip r:embed="rId1"/>
          <a:stretch/>
        </p:blipFill>
        <p:spPr>
          <a:xfrm>
            <a:off x="428760" y="642960"/>
            <a:ext cx="2333520" cy="327672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pic>
        <p:nvPicPr>
          <p:cNvPr id="228" name="Picture 3" descr="C:\Users\1\Desktop\Поэты о ВОв\tvardovskii.jpg"/>
          <p:cNvPicPr/>
          <p:nvPr/>
        </p:nvPicPr>
        <p:blipFill>
          <a:blip r:embed="rId2"/>
          <a:stretch/>
        </p:blipFill>
        <p:spPr>
          <a:xfrm>
            <a:off x="6215040" y="3786120"/>
            <a:ext cx="2552760" cy="285768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sp>
        <p:nvSpPr>
          <p:cNvPr id="229" name="TextBox 3"/>
          <p:cNvSpPr/>
          <p:nvPr/>
        </p:nvSpPr>
        <p:spPr>
          <a:xfrm>
            <a:off x="2928960" y="350028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613"/>
                </a:solidFill>
                <a:latin typeface="Georgia"/>
              </a:rPr>
              <a:t>Александр Твардовск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4" descr="C:\Users\1\Desktop\Поэты о ВОв\1-118.jpg"/>
          <p:cNvPicPr/>
          <p:nvPr/>
        </p:nvPicPr>
        <p:blipFill>
          <a:blip r:embed="rId3"/>
          <a:stretch/>
        </p:blipFill>
        <p:spPr>
          <a:xfrm>
            <a:off x="3929040" y="500040"/>
            <a:ext cx="3809880" cy="285768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pic>
        <p:nvPicPr>
          <p:cNvPr id="231" name="Picture 5" descr="C:\Users\1\Desktop\Поэты о ВОв\597381925.jpg"/>
          <p:cNvPicPr/>
          <p:nvPr/>
        </p:nvPicPr>
        <p:blipFill>
          <a:blip r:embed="rId4"/>
          <a:stretch/>
        </p:blipFill>
        <p:spPr>
          <a:xfrm>
            <a:off x="1571760" y="4643280"/>
            <a:ext cx="3187440" cy="203040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1\Desktop\Поэты о ВОв\1229786183_p_krivonogov-kapituljacija.jpg"/>
          <p:cNvPicPr/>
          <p:nvPr/>
        </p:nvPicPr>
        <p:blipFill>
          <a:blip r:embed="rId1"/>
          <a:stretch/>
        </p:blipFill>
        <p:spPr>
          <a:xfrm>
            <a:off x="428760" y="642960"/>
            <a:ext cx="4762440" cy="5629320"/>
          </a:xfrm>
          <a:prstGeom prst="rect">
            <a:avLst/>
          </a:prstGeom>
          <a:ln w="76320">
            <a:solidFill>
              <a:srgbClr val="222613"/>
            </a:solidFill>
            <a:miter/>
          </a:ln>
        </p:spPr>
      </p:pic>
      <p:sp>
        <p:nvSpPr>
          <p:cNvPr id="233" name="TextBox 2"/>
          <p:cNvSpPr/>
          <p:nvPr/>
        </p:nvSpPr>
        <p:spPr>
          <a:xfrm>
            <a:off x="5500800" y="1000080"/>
            <a:ext cx="342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к характеризует мальчика Твардовский? Почему именно такой мальчик мог стать участником такого события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жно ли поступок мальчика считать геройским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к рассказчик поблагодарил мальчика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чему рассказчик не может простить себе, что не спросил мальчика, как его зовут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1\Desktop\Поэты о ВОв\1.jpg"/>
          <p:cNvPicPr/>
          <p:nvPr/>
        </p:nvPicPr>
        <p:blipFill>
          <a:blip r:embed="rId1"/>
          <a:stretch/>
        </p:blipFill>
        <p:spPr>
          <a:xfrm>
            <a:off x="214200" y="642960"/>
            <a:ext cx="276228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1\Desktop\Поэты о ВОв\b4e73a813eee.jpg"/>
          <p:cNvPicPr/>
          <p:nvPr/>
        </p:nvPicPr>
        <p:blipFill>
          <a:blip r:embed="rId2"/>
          <a:stretch/>
        </p:blipFill>
        <p:spPr>
          <a:xfrm>
            <a:off x="4857840" y="714240"/>
            <a:ext cx="4095720" cy="3256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Users\1\Desktop\Поэты о ВОв\Широков.jpg"/>
          <p:cNvPicPr/>
          <p:nvPr/>
        </p:nvPicPr>
        <p:blipFill>
          <a:blip r:embed="rId3"/>
          <a:stretch/>
        </p:blipFill>
        <p:spPr>
          <a:xfrm>
            <a:off x="428760" y="3429000"/>
            <a:ext cx="3547800" cy="3121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1\Desktop\Поэты о ВОв\x_75a2cff5.jpg"/>
          <p:cNvPicPr/>
          <p:nvPr/>
        </p:nvPicPr>
        <p:blipFill>
          <a:blip r:embed="rId4"/>
          <a:stretch/>
        </p:blipFill>
        <p:spPr>
          <a:xfrm>
            <a:off x="5500800" y="4143240"/>
            <a:ext cx="17683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56:02Z</dcterms:created>
  <dc:creator>Худякова</dc:creator>
  <dc:description/>
  <dc:language>en-US</dc:language>
  <cp:lastModifiedBy>Худякова</cp:lastModifiedBy>
  <dcterms:modified xsi:type="dcterms:W3CDTF">2010-04-27T19:40:16Z</dcterms:modified>
  <cp:revision>5</cp:revision>
  <dc:subject/>
  <dc:title>Дети и война.</dc:title>
</cp:coreProperties>
</file>